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EB1-B7B9-4937-9913-B71199B8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74D-6A1F-4715-BC02-ACE31FE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72E-29E6-4E4A-8661-DA802864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D92-0611-4066-BAD2-FABDE61B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A18-9E21-4B24-B6F3-14690496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94F-32D5-4F6F-A6C3-9F420973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83D-0E4D-4250-9838-6B6EDD91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611E-F94A-4C06-9788-E1CA765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43A9-6024-4C1E-9AD9-D1DBE03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170-841F-417F-A5B4-B52E109B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CD6-A2D0-441E-A21C-D2BADD4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BB8-AA24-437A-8387-23EE83C7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2EF4-015D-4FB7-A744-10B4533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6EE0-5861-46AF-B9AE-E7B8384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9FFD-418A-4843-84FD-2AB06C21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C6FA-6AF0-48A4-9509-3D8843A5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50E4-C90D-4055-9752-D62E799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6366-FFC3-4917-A7DC-43BFDC91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52F7-2812-489B-BCD5-8BA836C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0F4E-03B4-47B3-9A0E-A6DB920A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3735-5422-4146-9DB5-A85258DA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5802-D28D-4AC4-BC6A-698FD39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D6F-B0B8-4398-AA8D-560D0D4B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6469-D6D0-48E5-99C5-858C081E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F006-0958-4DA1-B3AC-883064C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40B0-06C5-471B-A80F-DCE220B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D802-AF1E-4B19-B8D6-2719A8C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C69F-4F80-413C-9984-CC872B5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1EED-8D62-4C4B-8E37-41811778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83FD-C79B-40B1-BFED-E0E4FE75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DC5-B87B-49B9-BB3E-E40D6672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DD5-9908-4DEE-8877-6716407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358-61C2-4FE0-8ECA-19A2349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246-23B7-4421-940B-57953681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05C-6119-4EF5-B365-67D6C8D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99F-2728-48A3-84F1-ADFAF58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776-71F7-4F35-9959-ADC7EC1A7A4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7BD4-F740-4ECD-81AE-B572BBE489B5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BC1E-3386-4028-9251-DD6414BC8D06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изводная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042920" y="1916280"/>
                <a:ext cx="29512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1042920" y="3213000"/>
                <a:ext cx="3664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476360" y="2205000"/>
                <a:ext cx="165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692360" y="2852640"/>
                <a:ext cx="1922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76360" y="3429000"/>
                <a:ext cx="2160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1476360" y="3789360"/>
                <a:ext cx="2008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6156360" y="4365720"/>
            <a:ext cx="2720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3"/>
              <p:cNvSpPr txBox="1"/>
              <p:nvPr/>
            </p:nvSpPr>
            <p:spPr>
              <a:xfrm>
                <a:off x="6877080" y="4005360"/>
                <a:ext cx="855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4"/>
              <p:cNvSpPr txBox="1"/>
              <p:nvPr/>
            </p:nvSpPr>
            <p:spPr>
              <a:xfrm>
                <a:off x="7164360" y="4653000"/>
                <a:ext cx="790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6877080" y="4869000"/>
                <a:ext cx="838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7164360" y="4797360"/>
                <a:ext cx="71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0" name="Text Box 19"/>
          <p:cNvSpPr/>
          <p:nvPr/>
        </p:nvSpPr>
        <p:spPr>
          <a:xfrm>
            <a:off x="49334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094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4933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4716360" y="2276640"/>
            <a:ext cx="2449440" cy="2087280"/>
            <a:chOff x="4716360" y="2276640"/>
            <a:chExt cx="2449440" cy="2087280"/>
          </a:xfrm>
        </p:grpSpPr>
        <p:sp>
          <p:nvSpPr>
            <p:cNvPr id="384" name="Line 17"/>
            <p:cNvSpPr/>
            <p:nvPr/>
          </p:nvSpPr>
          <p:spPr>
            <a:xfrm flipV="1">
              <a:off x="5148360" y="2276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4716360" y="3860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22"/>
            <p:cNvSpPr/>
            <p:nvPr/>
          </p:nvSpPr>
          <p:spPr>
            <a:xfrm flipV="1">
              <a:off x="5435640" y="2565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3"/>
          <p:cNvSpPr/>
          <p:nvPr/>
        </p:nvSpPr>
        <p:spPr>
          <a:xfrm>
            <a:off x="4717800" y="3068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5435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5148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6732720" y="256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003640" y="2565360"/>
            <a:ext cx="144720" cy="1150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 rot="16200000">
            <a:off x="6048360" y="3320640"/>
            <a:ext cx="71640" cy="12970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9"/>
                </a:lnTo>
                <a:cubicBezTo>
                  <a:pt x="10800" y="9989"/>
                  <a:pt x="5400" y="10889"/>
                  <a:pt x="0" y="10889"/>
                </a:cubicBezTo>
                <a:cubicBezTo>
                  <a:pt x="5400" y="10889"/>
                  <a:pt x="10800" y="11789"/>
                  <a:pt x="10800" y="126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941800" y="39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4500720" y="3500280"/>
                <a:ext cx="6220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2"/>
              <p:cNvSpPr txBox="1"/>
              <p:nvPr/>
            </p:nvSpPr>
            <p:spPr>
              <a:xfrm>
                <a:off x="6588000" y="3933720"/>
                <a:ext cx="6480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651640" y="3933720"/>
                <a:ext cx="191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4"/>
              <p:cNvSpPr txBox="1"/>
              <p:nvPr/>
            </p:nvSpPr>
            <p:spPr>
              <a:xfrm>
                <a:off x="4932360" y="2924280"/>
                <a:ext cx="193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Oval 35"/>
          <p:cNvSpPr/>
          <p:nvPr/>
        </p:nvSpPr>
        <p:spPr>
          <a:xfrm flipH="1" flipV="1">
            <a:off x="5723640" y="38235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 flipH="1" flipV="1">
            <a:off x="5723640" y="364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7"/>
          <p:cNvSpPr/>
          <p:nvPr/>
        </p:nvSpPr>
        <p:spPr>
          <a:xfrm flipH="1" flipV="1">
            <a:off x="6587280" y="3823560"/>
            <a:ext cx="7164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8"/>
          <p:cNvSpPr/>
          <p:nvPr/>
        </p:nvSpPr>
        <p:spPr>
          <a:xfrm flipH="1" flipV="1">
            <a:off x="658728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"/>
          <p:cNvSpPr/>
          <p:nvPr/>
        </p:nvSpPr>
        <p:spPr>
          <a:xfrm flipV="1">
            <a:off x="576108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0"/>
          <p:cNvSpPr/>
          <p:nvPr/>
        </p:nvSpPr>
        <p:spPr>
          <a:xfrm flipH="1">
            <a:off x="5184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1"/>
          <p:cNvSpPr/>
          <p:nvPr/>
        </p:nvSpPr>
        <p:spPr>
          <a:xfrm flipH="1">
            <a:off x="5113440" y="2997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2"/>
          <p:cNvSpPr/>
          <p:nvPr/>
        </p:nvSpPr>
        <p:spPr>
          <a:xfrm flipH="1" flipV="1">
            <a:off x="5113440" y="3607560"/>
            <a:ext cx="712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3"/>
          <p:cNvSpPr/>
          <p:nvPr/>
        </p:nvSpPr>
        <p:spPr>
          <a:xfrm>
            <a:off x="5149800" y="30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662148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3637800" y="4869000"/>
            <a:ext cx="16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й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 и та же л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7"/>
          <p:cNvGrpSpPr/>
          <p:nvPr/>
        </p:nvGrpSpPr>
        <p:grpSpPr>
          <a:xfrm>
            <a:off x="971640" y="4292640"/>
            <a:ext cx="2449440" cy="2087280"/>
            <a:chOff x="971640" y="4292640"/>
            <a:chExt cx="2449440" cy="2087280"/>
          </a:xfrm>
        </p:grpSpPr>
        <p:sp>
          <p:nvSpPr>
            <p:cNvPr id="411" name="Line 48"/>
            <p:cNvSpPr/>
            <p:nvPr/>
          </p:nvSpPr>
          <p:spPr>
            <a:xfrm flipV="1">
              <a:off x="1403640" y="4292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971640" y="5876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50"/>
            <p:cNvSpPr/>
            <p:nvPr/>
          </p:nvSpPr>
          <p:spPr>
            <a:xfrm flipV="1">
              <a:off x="1690920" y="4581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51"/>
          <p:cNvSpPr/>
          <p:nvPr/>
        </p:nvSpPr>
        <p:spPr>
          <a:xfrm>
            <a:off x="1167840" y="5897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3349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1116000" y="4221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"/>
          <p:cNvSpPr/>
          <p:nvPr/>
        </p:nvSpPr>
        <p:spPr>
          <a:xfrm>
            <a:off x="1332000" y="544500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241128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7"/>
          <p:cNvSpPr/>
          <p:nvPr/>
        </p:nvSpPr>
        <p:spPr>
          <a:xfrm>
            <a:off x="2411280" y="5840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8"/>
          <p:cNvSpPr/>
          <p:nvPr/>
        </p:nvSpPr>
        <p:spPr>
          <a:xfrm flipV="1">
            <a:off x="244620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9"/>
          <p:cNvSpPr/>
          <p:nvPr/>
        </p:nvSpPr>
        <p:spPr>
          <a:xfrm flipH="1">
            <a:off x="1403280" y="5479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0"/>
              <p:cNvSpPr txBox="1"/>
              <p:nvPr/>
            </p:nvSpPr>
            <p:spPr>
              <a:xfrm>
                <a:off x="1619280" y="5229360"/>
                <a:ext cx="6224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1"/>
              <p:cNvSpPr txBox="1"/>
              <p:nvPr/>
            </p:nvSpPr>
            <p:spPr>
              <a:xfrm>
                <a:off x="2411280" y="5877000"/>
                <a:ext cx="192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Line 62"/>
          <p:cNvSpPr/>
          <p:nvPr/>
        </p:nvSpPr>
        <p:spPr>
          <a:xfrm>
            <a:off x="140328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3"/>
          <p:cNvSpPr/>
          <p:nvPr/>
        </p:nvSpPr>
        <p:spPr>
          <a:xfrm>
            <a:off x="241128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4"/>
              <p:cNvSpPr txBox="1"/>
              <p:nvPr/>
            </p:nvSpPr>
            <p:spPr>
              <a:xfrm>
                <a:off x="1547640" y="522936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5"/>
              <p:cNvSpPr txBox="1"/>
              <p:nvPr/>
            </p:nvSpPr>
            <p:spPr>
              <a:xfrm>
                <a:off x="1187280" y="5373720"/>
                <a:ext cx="195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2"/>
          <p:cNvSpPr/>
          <p:nvPr/>
        </p:nvSpPr>
        <p:spPr>
          <a:xfrm>
            <a:off x="65880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0"/>
          <p:cNvSpPr/>
          <p:nvPr/>
        </p:nvSpPr>
        <p:spPr>
          <a:xfrm>
            <a:off x="6516720" y="5084640"/>
            <a:ext cx="19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4356000" y="5229360"/>
            <a:ext cx="11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5508720" y="1989000"/>
            <a:ext cx="27352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443640" y="3284640"/>
            <a:ext cx="1368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755640" y="2205000"/>
            <a:ext cx="35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обрат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 формулы  1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042920" y="2205000"/>
                <a:ext cx="320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042920" y="2565360"/>
                <a:ext cx="3313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онотон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1042920" y="2924280"/>
                <a:ext cx="3229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5867280" y="2060640"/>
                <a:ext cx="2256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брат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5867280" y="2708280"/>
                <a:ext cx="237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6012000" y="3357720"/>
                <a:ext cx="446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sepChr m:val="∃"/>
                        <m:endChr m:val=")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6372360" y="3213000"/>
                <a:ext cx="1363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 Box 16"/>
          <p:cNvSpPr/>
          <p:nvPr/>
        </p:nvSpPr>
        <p:spPr>
          <a:xfrm>
            <a:off x="5580000" y="2060640"/>
            <a:ext cx="273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"/>
          <p:cNvSpPr/>
          <p:nvPr/>
        </p:nvSpPr>
        <p:spPr>
          <a:xfrm>
            <a:off x="4500720" y="263700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0"/>
              <p:cNvSpPr txBox="1"/>
              <p:nvPr/>
            </p:nvSpPr>
            <p:spPr>
              <a:xfrm>
                <a:off x="826920" y="4149720"/>
                <a:ext cx="16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1042920" y="4797360"/>
                <a:ext cx="2016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2"/>
              <p:cNvSpPr txBox="1"/>
              <p:nvPr/>
            </p:nvSpPr>
            <p:spPr>
              <a:xfrm>
                <a:off x="1042920" y="5013360"/>
                <a:ext cx="244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3"/>
              <p:cNvSpPr txBox="1"/>
              <p:nvPr/>
            </p:nvSpPr>
            <p:spPr>
              <a:xfrm>
                <a:off x="1042920" y="5589720"/>
                <a:ext cx="252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9" name="AutoShape 24"/>
          <p:cNvSpPr/>
          <p:nvPr/>
        </p:nvSpPr>
        <p:spPr>
          <a:xfrm>
            <a:off x="3564000" y="515772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5"/>
          <p:cNvSpPr/>
          <p:nvPr/>
        </p:nvSpPr>
        <p:spPr>
          <a:xfrm>
            <a:off x="3780000" y="54450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6"/>
              <p:cNvSpPr txBox="1"/>
              <p:nvPr/>
            </p:nvSpPr>
            <p:spPr>
              <a:xfrm>
                <a:off x="4356000" y="5229360"/>
                <a:ext cx="1071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8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9"/>
              <p:cNvSpPr txBox="1"/>
              <p:nvPr/>
            </p:nvSpPr>
            <p:spPr>
              <a:xfrm>
                <a:off x="6516720" y="5084640"/>
                <a:ext cx="194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1"/>
              <p:cNvSpPr txBox="1"/>
              <p:nvPr/>
            </p:nvSpPr>
            <p:spPr>
              <a:xfrm>
                <a:off x="6588000" y="5589720"/>
                <a:ext cx="1800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, заданные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задана параметричес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дана пара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ме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284120" y="2565360"/>
                <a:ext cx="18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8"/>
              <p:cNvSpPr txBox="1"/>
              <p:nvPr/>
            </p:nvSpPr>
            <p:spPr>
              <a:xfrm>
                <a:off x="826920" y="3645000"/>
                <a:ext cx="201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AutoShape 9"/>
          <p:cNvSpPr/>
          <p:nvPr/>
        </p:nvSpPr>
        <p:spPr>
          <a:xfrm>
            <a:off x="2916360" y="3933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996360" y="3429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1"/>
              <p:cNvSpPr txBox="1"/>
              <p:nvPr/>
            </p:nvSpPr>
            <p:spPr>
              <a:xfrm>
                <a:off x="4284720" y="3429000"/>
                <a:ext cx="207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2"/>
          <p:cNvSpPr/>
          <p:nvPr/>
        </p:nvSpPr>
        <p:spPr>
          <a:xfrm>
            <a:off x="4068000" y="4221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3"/>
              <p:cNvSpPr txBox="1"/>
              <p:nvPr/>
            </p:nvSpPr>
            <p:spPr>
              <a:xfrm>
                <a:off x="4356000" y="4221000"/>
                <a:ext cx="23781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18"/>
          <p:cNvSpPr/>
          <p:nvPr/>
        </p:nvSpPr>
        <p:spPr>
          <a:xfrm>
            <a:off x="781344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3"/>
          <p:cNvGrpSpPr/>
          <p:nvPr/>
        </p:nvGrpSpPr>
        <p:grpSpPr>
          <a:xfrm>
            <a:off x="7093080" y="2781360"/>
            <a:ext cx="1792440" cy="1728720"/>
            <a:chOff x="7093080" y="2781360"/>
            <a:chExt cx="1792440" cy="1728720"/>
          </a:xfrm>
        </p:grpSpPr>
        <p:sp>
          <p:nvSpPr>
            <p:cNvPr id="466" name="Line 14"/>
            <p:cNvSpPr/>
            <p:nvPr/>
          </p:nvSpPr>
          <p:spPr>
            <a:xfrm flipV="1">
              <a:off x="8101080" y="2997360"/>
              <a:ext cx="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7093080" y="400536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7886520" y="400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8605800" y="393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flipV="1">
              <a:off x="7740720" y="2925720"/>
              <a:ext cx="649080" cy="10778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360 h 1077840"/>
                <a:gd name="textAreaBottom" fmla="*/ 1078560 h 1077840"/>
              </a:gdLst>
              <a:ahLst/>
              <a:rect l="textAreaLeft" t="textAreaTop" r="textAreaRight" b="textAreaBottom"/>
              <a:pathLst>
                <a:path fill="none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</a:path>
                <a:path stroke="0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  <a:lnTo>
                    <a:pt x="0" y="21537"/>
                  </a:lnTo>
                  <a:lnTo>
                    <a:pt x="165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20"/>
            <p:cNvSpPr/>
            <p:nvPr/>
          </p:nvSpPr>
          <p:spPr>
            <a:xfrm flipH="1" flipV="1">
              <a:off x="7235280" y="2923560"/>
              <a:ext cx="649080" cy="108108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7886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7597440" y="3933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3"/>
                <p:cNvSpPr txBox="1"/>
                <p:nvPr/>
              </p:nvSpPr>
              <p:spPr>
                <a:xfrm>
                  <a:off x="7308720" y="2781360"/>
                  <a:ext cx="7272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rc 26"/>
          <p:cNvSpPr/>
          <p:nvPr/>
        </p:nvSpPr>
        <p:spPr>
          <a:xfrm flipH="1" flipV="1">
            <a:off x="6804000" y="4507920"/>
            <a:ext cx="649440" cy="1081080"/>
          </a:xfrm>
          <a:custGeom>
            <a:avLst/>
            <a:gdLst>
              <a:gd name="textAreaLeft" fmla="*/ 360 w 649440"/>
              <a:gd name="textAreaRight" fmla="*/ 650160 w 64944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c 27"/>
          <p:cNvSpPr/>
          <p:nvPr/>
        </p:nvSpPr>
        <p:spPr>
          <a:xfrm flipV="1">
            <a:off x="7380360" y="4508640"/>
            <a:ext cx="649080" cy="1077840"/>
          </a:xfrm>
          <a:custGeom>
            <a:avLst/>
            <a:gdLst>
              <a:gd name="textAreaLeft" fmla="*/ 0 w 649080"/>
              <a:gd name="textAreaRight" fmla="*/ 649440 w 649080"/>
              <a:gd name="textAreaTop" fmla="*/ 360 h 1077840"/>
              <a:gd name="textAreaBottom" fmla="*/ 1078560 h 1077840"/>
            </a:gdLst>
            <a:ahLst/>
            <a:rect l="textAreaLeft" t="textAreaTop" r="textAreaRight" b="textAreaBottom"/>
            <a:pathLst>
              <a:path fill="none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</a:path>
              <a:path stroke="0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  <a:lnTo>
                  <a:pt x="0" y="21537"/>
                </a:lnTo>
                <a:lnTo>
                  <a:pt x="1654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4"/>
          <p:cNvGrpSpPr/>
          <p:nvPr/>
        </p:nvGrpSpPr>
        <p:grpSpPr>
          <a:xfrm>
            <a:off x="6877080" y="4581360"/>
            <a:ext cx="1792440" cy="1655640"/>
            <a:chOff x="6877080" y="4581360"/>
            <a:chExt cx="1792440" cy="1655640"/>
          </a:xfrm>
        </p:grpSpPr>
        <p:sp>
          <p:nvSpPr>
            <p:cNvPr id="478" name="Line 24"/>
            <p:cNvSpPr/>
            <p:nvPr/>
          </p:nvSpPr>
          <p:spPr>
            <a:xfrm>
              <a:off x="6877080" y="558972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7740720" y="4723920"/>
              <a:ext cx="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7309800" y="551664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7526160" y="5157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52616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83898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7452720" y="458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4572000" y="3213000"/>
            <a:ext cx="2232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755640" y="2349360"/>
            <a:ext cx="2879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функции, заданной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476360" y="2421000"/>
                <a:ext cx="2021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476360" y="3152880"/>
                <a:ext cx="206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476360" y="3645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9"/>
              <p:cNvSpPr txBox="1"/>
              <p:nvPr/>
            </p:nvSpPr>
            <p:spPr>
              <a:xfrm>
                <a:off x="1547640" y="4292640"/>
                <a:ext cx="1908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547640" y="4941720"/>
                <a:ext cx="7923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AutoShape 12"/>
          <p:cNvSpPr/>
          <p:nvPr/>
        </p:nvSpPr>
        <p:spPr>
          <a:xfrm>
            <a:off x="370836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4716360" y="3284640"/>
                <a:ext cx="20685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ые высших поряд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произв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производной перв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втор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производной  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1979640" y="2060640"/>
                <a:ext cx="1006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2843280" y="2492280"/>
                <a:ext cx="95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1547640" y="3716280"/>
                <a:ext cx="2359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1547640" y="5157720"/>
                <a:ext cx="2808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Line 10"/>
          <p:cNvSpPr/>
          <p:nvPr/>
        </p:nvSpPr>
        <p:spPr>
          <a:xfrm>
            <a:off x="4643280" y="3068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056560" y="321156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2"/>
              <p:cNvSpPr txBox="1"/>
              <p:nvPr/>
            </p:nvSpPr>
            <p:spPr>
              <a:xfrm>
                <a:off x="5219640" y="3429000"/>
                <a:ext cx="2720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875640" y="184464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2124000" y="24210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340000" y="299736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2627280" y="350028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72240" y="487044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2700360" y="148428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219640" y="2637000"/>
            <a:ext cx="3384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00000" y="270828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             определена в некоторой окрестности точки         (включая точку      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сатель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й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 графику функ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чке     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ельное положение секущ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, к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195640" y="1628640"/>
                <a:ext cx="64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411280" y="198900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4067280" y="1989000"/>
                <a:ext cx="32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900000" y="2637000"/>
                <a:ext cx="213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0"/>
          <p:cNvSpPr/>
          <p:nvPr/>
        </p:nvSpPr>
        <p:spPr>
          <a:xfrm>
            <a:off x="5271840" y="2657520"/>
            <a:ext cx="33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  н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 отнош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я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ю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е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6948360" y="2637000"/>
                <a:ext cx="50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AutoShape 12"/>
          <p:cNvSpPr/>
          <p:nvPr/>
        </p:nvSpPr>
        <p:spPr>
          <a:xfrm>
            <a:off x="3419640" y="2997360"/>
            <a:ext cx="1584000" cy="215640"/>
          </a:xfrm>
          <a:prstGeom prst="leftArrow">
            <a:avLst>
              <a:gd name="adj1" fmla="val 50000"/>
              <a:gd name="adj2" fmla="val 18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900000" y="4149720"/>
                <a:ext cx="1090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2627280" y="4149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2771640" y="4437000"/>
                <a:ext cx="648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924360" y="4437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860544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868360" y="361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9418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6372360" y="3644640"/>
            <a:ext cx="93636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6659640" y="4797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 flipV="1">
            <a:off x="7524720" y="4075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10880" y="3860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 flipV="1">
            <a:off x="7885080" y="4075920"/>
            <a:ext cx="7164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814160" y="378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7"/>
              <p:cNvSpPr txBox="1"/>
              <p:nvPr/>
            </p:nvSpPr>
            <p:spPr>
              <a:xfrm>
                <a:off x="6443640" y="450864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Line 28"/>
          <p:cNvSpPr/>
          <p:nvPr/>
        </p:nvSpPr>
        <p:spPr>
          <a:xfrm flipV="1">
            <a:off x="615636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5219640" y="551664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0"/>
          <p:cNvSpPr/>
          <p:nvPr/>
        </p:nvSpPr>
        <p:spPr>
          <a:xfrm flipH="1" flipV="1" rot="6492600">
            <a:off x="6671160" y="4065480"/>
            <a:ext cx="1435320" cy="1171440"/>
          </a:xfrm>
          <a:custGeom>
            <a:avLst/>
            <a:gdLst>
              <a:gd name="textAreaLeft" fmla="*/ -360 w 1435320"/>
              <a:gd name="textAreaRight" fmla="*/ 1435320 w 143532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5292720" y="3860280"/>
            <a:ext cx="3024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6732720" y="479736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H="1">
            <a:off x="6156000" y="479736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4"/>
              <p:cNvSpPr txBox="1"/>
              <p:nvPr/>
            </p:nvSpPr>
            <p:spPr>
              <a:xfrm>
                <a:off x="6588000" y="544500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5867280" y="450864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36"/>
          <p:cNvSpPr/>
          <p:nvPr/>
        </p:nvSpPr>
        <p:spPr>
          <a:xfrm>
            <a:off x="6949800" y="3645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5724360" y="3716280"/>
            <a:ext cx="230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8"/>
              <p:cNvSpPr txBox="1"/>
              <p:nvPr/>
            </p:nvSpPr>
            <p:spPr>
              <a:xfrm>
                <a:off x="8101080" y="407664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6"/>
          <p:cNvSpPr/>
          <p:nvPr/>
        </p:nvSpPr>
        <p:spPr>
          <a:xfrm>
            <a:off x="971640" y="4724280"/>
            <a:ext cx="367164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5076720" y="4869000"/>
            <a:ext cx="223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3492360" y="4149720"/>
                <a:ext cx="1081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5"/>
          <p:cNvSpPr/>
          <p:nvPr/>
        </p:nvSpPr>
        <p:spPr>
          <a:xfrm flipH="1" flipV="1">
            <a:off x="1835280" y="1988640"/>
            <a:ext cx="144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900000" y="4221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"/>
          <p:cNvSpPr/>
          <p:nvPr/>
        </p:nvSpPr>
        <p:spPr>
          <a:xfrm flipH="1" flipV="1" rot="5400000">
            <a:off x="2426400" y="2518560"/>
            <a:ext cx="1393920" cy="1579680"/>
          </a:xfrm>
          <a:custGeom>
            <a:avLst/>
            <a:gdLst>
              <a:gd name="textAreaLeft" fmla="*/ 360 w 1393920"/>
              <a:gd name="textAreaRight" fmla="*/ 1394640 w 139392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fill="none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</a:path>
              <a:path stroke="0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  <a:lnTo>
                  <a:pt x="0" y="21525"/>
                </a:lnTo>
                <a:lnTo>
                  <a:pt x="179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187280" y="234900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692360" y="2276640"/>
            <a:ext cx="180000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41128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63528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2411280" y="3500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124000" y="314172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494520" y="234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918520" y="24210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 flipV="1">
            <a:off x="3635280" y="256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298764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1835280" y="357336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268360" y="414972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1547640" y="350028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Oval 25"/>
          <p:cNvSpPr/>
          <p:nvPr/>
        </p:nvSpPr>
        <p:spPr>
          <a:xfrm>
            <a:off x="234000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2124000" y="2349000"/>
            <a:ext cx="71928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2557440" y="2276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059280" y="27082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 flipV="1" rot="16200000">
            <a:off x="2699280" y="39319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21600 h 648000"/>
              <a:gd name="textAreaBottom" fmla="*/ 6264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8"/>
                  <a:pt x="10800" y="2315"/>
                </a:cubicBezTo>
                <a:lnTo>
                  <a:pt x="10800" y="8644"/>
                </a:lnTo>
                <a:cubicBezTo>
                  <a:pt x="10800" y="9802"/>
                  <a:pt x="5400" y="10959"/>
                  <a:pt x="0" y="10959"/>
                </a:cubicBezTo>
                <a:cubicBezTo>
                  <a:pt x="5400" y="10959"/>
                  <a:pt x="10800" y="12117"/>
                  <a:pt x="10800" y="13274"/>
                </a:cubicBezTo>
                <a:lnTo>
                  <a:pt x="10800" y="19285"/>
                </a:lnTo>
                <a:cubicBezTo>
                  <a:pt x="10800" y="2044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 flipV="1" rot="16200000">
            <a:off x="2950920" y="35359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9960 h 1224000"/>
              <a:gd name="textAreaBottom" fmla="*/ 11840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826"/>
                </a:lnTo>
                <a:cubicBezTo>
                  <a:pt x="10800" y="9957"/>
                  <a:pt x="16200" y="11087"/>
                  <a:pt x="21600" y="11087"/>
                </a:cubicBezTo>
                <a:cubicBezTo>
                  <a:pt x="16200" y="11087"/>
                  <a:pt x="10800" y="12218"/>
                  <a:pt x="10800" y="13348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2"/>
              <p:cNvSpPr txBox="1"/>
              <p:nvPr/>
            </p:nvSpPr>
            <p:spPr>
              <a:xfrm>
                <a:off x="3059280" y="3789360"/>
                <a:ext cx="369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3"/>
              <p:cNvSpPr txBox="1"/>
              <p:nvPr/>
            </p:nvSpPr>
            <p:spPr>
              <a:xfrm>
                <a:off x="2627280" y="4221000"/>
                <a:ext cx="37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4"/>
              <p:cNvSpPr txBox="1"/>
              <p:nvPr/>
            </p:nvSpPr>
            <p:spPr>
              <a:xfrm>
                <a:off x="3851280" y="256536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H="1">
            <a:off x="183528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684360" y="2349360"/>
                <a:ext cx="1116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9"/>
              <p:cNvSpPr txBox="1"/>
              <p:nvPr/>
            </p:nvSpPr>
            <p:spPr>
              <a:xfrm>
                <a:off x="1332000" y="29242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AutoShape 40"/>
          <p:cNvSpPr/>
          <p:nvPr/>
        </p:nvSpPr>
        <p:spPr>
          <a:xfrm>
            <a:off x="1692360" y="263700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2"/>
          <p:cNvSpPr/>
          <p:nvPr/>
        </p:nvSpPr>
        <p:spPr>
          <a:xfrm>
            <a:off x="2700360" y="3284640"/>
            <a:ext cx="71280" cy="261720"/>
          </a:xfrm>
          <a:custGeom>
            <a:avLst/>
            <a:gdLst>
              <a:gd name="textAreaLeft" fmla="*/ 0 w 71280"/>
              <a:gd name="textAreaRight" fmla="*/ 71640 w 712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fill="none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</a:path>
              <a:path stroke="0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43"/>
          <p:cNvSpPr/>
          <p:nvPr/>
        </p:nvSpPr>
        <p:spPr>
          <a:xfrm rot="21128400">
            <a:off x="2700360" y="3068640"/>
            <a:ext cx="287280" cy="552600"/>
          </a:xfrm>
          <a:custGeom>
            <a:avLst/>
            <a:gdLst>
              <a:gd name="textAreaLeft" fmla="*/ 0 w 287280"/>
              <a:gd name="textAreaRight" fmla="*/ 287640 w 287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</a:path>
              <a:path stroke="0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  <a:lnTo>
                  <a:pt x="0" y="18655"/>
                </a:lnTo>
                <a:lnTo>
                  <a:pt x="10888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4"/>
          <p:cNvSpPr/>
          <p:nvPr/>
        </p:nvSpPr>
        <p:spPr>
          <a:xfrm>
            <a:off x="2411280" y="3429000"/>
            <a:ext cx="81000" cy="287280"/>
          </a:xfrm>
          <a:custGeom>
            <a:avLst/>
            <a:gdLst>
              <a:gd name="textAreaLeft" fmla="*/ 0 w 81000"/>
              <a:gd name="textAreaRight" fmla="*/ 81000 w 81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</a:path>
              <a:path stroke="0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5"/>
              <p:cNvSpPr txBox="1"/>
              <p:nvPr/>
            </p:nvSpPr>
            <p:spPr>
              <a:xfrm>
                <a:off x="2411280" y="3573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7"/>
              <p:cNvSpPr txBox="1"/>
              <p:nvPr/>
            </p:nvSpPr>
            <p:spPr>
              <a:xfrm>
                <a:off x="2771640" y="321300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8"/>
              <p:cNvSpPr txBox="1"/>
              <p:nvPr/>
            </p:nvSpPr>
            <p:spPr>
              <a:xfrm>
                <a:off x="6012000" y="3068640"/>
                <a:ext cx="111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t xml:space="preserve">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9"/>
              <p:cNvSpPr txBox="1"/>
              <p:nvPr/>
            </p:nvSpPr>
            <p:spPr>
              <a:xfrm>
                <a:off x="5219640" y="2708280"/>
                <a:ext cx="194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50"/>
          <p:cNvSpPr/>
          <p:nvPr/>
        </p:nvSpPr>
        <p:spPr>
          <a:xfrm>
            <a:off x="5292720" y="31417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6084720" y="3429000"/>
                <a:ext cx="111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52"/>
          <p:cNvSpPr/>
          <p:nvPr/>
        </p:nvSpPr>
        <p:spPr>
          <a:xfrm>
            <a:off x="5364000" y="350028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5580000" y="3933720"/>
                <a:ext cx="1668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Line 54"/>
          <p:cNvSpPr/>
          <p:nvPr/>
        </p:nvSpPr>
        <p:spPr>
          <a:xfrm>
            <a:off x="630072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6"/>
          <p:cNvSpPr/>
          <p:nvPr/>
        </p:nvSpPr>
        <p:spPr>
          <a:xfrm>
            <a:off x="694836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702000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8"/>
              <p:cNvSpPr txBox="1"/>
              <p:nvPr/>
            </p:nvSpPr>
            <p:spPr>
              <a:xfrm>
                <a:off x="5076720" y="4869000"/>
                <a:ext cx="223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AutoShape 60"/>
          <p:cNvSpPr/>
          <p:nvPr/>
        </p:nvSpPr>
        <p:spPr>
          <a:xfrm>
            <a:off x="6227640" y="458136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041120" y="4710240"/>
            <a:ext cx="3593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гловому коэффициенту касате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рафику этой функции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2"/>
              <p:cNvSpPr txBox="1"/>
              <p:nvPr/>
            </p:nvSpPr>
            <p:spPr>
              <a:xfrm>
                <a:off x="3419640" y="4797360"/>
                <a:ext cx="431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4356000" y="479736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4"/>
              <p:cNvSpPr txBox="1"/>
              <p:nvPr/>
            </p:nvSpPr>
            <p:spPr>
              <a:xfrm>
                <a:off x="3419640" y="5300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1403280" y="558972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67"/>
          <p:cNvSpPr/>
          <p:nvPr/>
        </p:nvSpPr>
        <p:spPr>
          <a:xfrm>
            <a:off x="4643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8"/>
          <p:cNvSpPr/>
          <p:nvPr/>
        </p:nvSpPr>
        <p:spPr>
          <a:xfrm>
            <a:off x="4500720" y="2852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18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графику функции                    в 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оходящая через 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пендикуляр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ельн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нормали 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771640" y="2565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826920" y="256536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4500720" y="5877000"/>
            <a:ext cx="2808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826920" y="5877000"/>
            <a:ext cx="280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556000" y="3429000"/>
            <a:ext cx="2881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6012000" y="357336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067280" y="4292640"/>
                <a:ext cx="936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867280" y="4292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8675640" y="3213000"/>
                <a:ext cx="246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948360" y="3141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5651640" y="4581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11"/>
          <p:cNvSpPr/>
          <p:nvPr/>
        </p:nvSpPr>
        <p:spPr>
          <a:xfrm>
            <a:off x="4860720" y="479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V="1">
            <a:off x="6229440" y="1412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5292720" y="3213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 rot="6492600">
            <a:off x="6744240" y="1761840"/>
            <a:ext cx="1434960" cy="1171440"/>
          </a:xfrm>
          <a:custGeom>
            <a:avLst/>
            <a:gdLst>
              <a:gd name="textAreaLeft" fmla="*/ 0 w 1434960"/>
              <a:gd name="textAreaRight" fmla="*/ 1434960 w 143496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7093080" y="2133720"/>
            <a:ext cx="0" cy="107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6012000" y="1197000"/>
            <a:ext cx="194472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6227640" y="2133720"/>
            <a:ext cx="865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22"/>
          <p:cNvSpPr/>
          <p:nvPr/>
        </p:nvSpPr>
        <p:spPr>
          <a:xfrm>
            <a:off x="6300720" y="292428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6443640" y="141300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24"/>
          <p:cNvSpPr/>
          <p:nvPr/>
        </p:nvSpPr>
        <p:spPr>
          <a:xfrm flipH="1" flipV="1">
            <a:off x="6443640" y="1628640"/>
            <a:ext cx="144144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5"/>
              <p:cNvSpPr txBox="1"/>
              <p:nvPr/>
            </p:nvSpPr>
            <p:spPr>
              <a:xfrm>
                <a:off x="7451640" y="1125360"/>
                <a:ext cx="5050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4521240" y="3346560"/>
                <a:ext cx="404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5940360" y="191628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Line 30"/>
          <p:cNvSpPr/>
          <p:nvPr/>
        </p:nvSpPr>
        <p:spPr>
          <a:xfrm flipV="1">
            <a:off x="6948360" y="198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>
            <a:off x="7020000" y="198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6012000" y="1341360"/>
                <a:ext cx="250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622872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4"/>
              <p:cNvSpPr txBox="1"/>
              <p:nvPr/>
            </p:nvSpPr>
            <p:spPr>
              <a:xfrm>
                <a:off x="7596360" y="148428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5"/>
              <p:cNvSpPr txBox="1"/>
              <p:nvPr/>
            </p:nvSpPr>
            <p:spPr>
              <a:xfrm>
                <a:off x="644364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6"/>
              <p:cNvSpPr txBox="1"/>
              <p:nvPr/>
            </p:nvSpPr>
            <p:spPr>
              <a:xfrm>
                <a:off x="7164360" y="2060640"/>
                <a:ext cx="720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7"/>
              <p:cNvSpPr txBox="1"/>
              <p:nvPr/>
            </p:nvSpPr>
            <p:spPr>
              <a:xfrm>
                <a:off x="900000" y="256536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40"/>
          <p:cNvSpPr/>
          <p:nvPr/>
        </p:nvSpPr>
        <p:spPr>
          <a:xfrm>
            <a:off x="2195640" y="270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2771640" y="2565360"/>
                <a:ext cx="25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4"/>
              <p:cNvSpPr txBox="1"/>
              <p:nvPr/>
            </p:nvSpPr>
            <p:spPr>
              <a:xfrm>
                <a:off x="6012000" y="3500280"/>
                <a:ext cx="2089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7"/>
              <p:cNvSpPr txBox="1"/>
              <p:nvPr/>
            </p:nvSpPr>
            <p:spPr>
              <a:xfrm>
                <a:off x="2556000" y="3429000"/>
                <a:ext cx="2879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9"/>
              <p:cNvSpPr txBox="1"/>
              <p:nvPr/>
            </p:nvSpPr>
            <p:spPr>
              <a:xfrm>
                <a:off x="826920" y="5805360"/>
                <a:ext cx="2808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AutoShape 51"/>
          <p:cNvSpPr/>
          <p:nvPr/>
        </p:nvSpPr>
        <p:spPr>
          <a:xfrm>
            <a:off x="3780000" y="6165720"/>
            <a:ext cx="576000" cy="71640"/>
          </a:xfrm>
          <a:prstGeom prst="rightArrow">
            <a:avLst>
              <a:gd name="adj1" fmla="val 50000"/>
              <a:gd name="adj2" fmla="val 20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4500720" y="5805360"/>
                <a:ext cx="2823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54"/>
          <p:cNvSpPr/>
          <p:nvPr/>
        </p:nvSpPr>
        <p:spPr>
          <a:xfrm>
            <a:off x="5651640" y="3573360"/>
            <a:ext cx="215640" cy="322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2200"/>
              <a:gd name="textAreaBottom" fmla="*/ 308520 h 322200"/>
            </a:gdLst>
            <a:ahLst/>
            <a:rect l="textAreaLeft" t="textAreaTop" r="textAreaRight" b="textAreaBottom"/>
            <a:pathLst>
              <a:path w="21600" h="32256">
                <a:moveTo>
                  <a:pt x="0" y="0"/>
                </a:moveTo>
                <a:lnTo>
                  <a:pt x="21600" y="0"/>
                </a:lnTo>
                <a:lnTo>
                  <a:pt x="21600" y="32256"/>
                </a:lnTo>
                <a:lnTo>
                  <a:pt x="0" y="32256"/>
                </a:lnTo>
                <a:close/>
              </a:path>
              <a:path fill="lightenLess" w="21600" h="32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56">
                <a:moveTo>
                  <a:pt x="21600" y="0"/>
                </a:moveTo>
                <a:lnTo>
                  <a:pt x="21600" y="32256"/>
                </a:lnTo>
                <a:lnTo>
                  <a:pt x="20200" y="30856"/>
                </a:lnTo>
                <a:lnTo>
                  <a:pt x="20200" y="1400"/>
                </a:lnTo>
                <a:close/>
              </a:path>
              <a:path fill="darkenLess" w="21600" h="32256">
                <a:moveTo>
                  <a:pt x="21600" y="32256"/>
                </a:moveTo>
                <a:lnTo>
                  <a:pt x="0" y="32256"/>
                </a:lnTo>
                <a:lnTo>
                  <a:pt x="1400" y="30856"/>
                </a:lnTo>
                <a:lnTo>
                  <a:pt x="20200" y="30856"/>
                </a:lnTo>
                <a:close/>
              </a:path>
              <a:path fill="lighten" w="21600" h="32256">
                <a:moveTo>
                  <a:pt x="0" y="32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56"/>
                </a:lnTo>
                <a:close/>
              </a:path>
              <a:path fill="darken" w="21600" h="32256">
                <a:moveTo>
                  <a:pt x="10800" y="2013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56">
                <a:moveTo>
                  <a:pt x="11905" y="19609"/>
                </a:moveTo>
                <a:lnTo>
                  <a:pt x="11905" y="17651"/>
                </a:lnTo>
                <a:cubicBezTo>
                  <a:pt x="11905" y="16824"/>
                  <a:pt x="12236" y="16128"/>
                  <a:pt x="12837" y="16128"/>
                </a:cubicBezTo>
                <a:cubicBezTo>
                  <a:pt x="13968" y="16128"/>
                  <a:pt x="14865" y="14762"/>
                  <a:pt x="14865" y="13177"/>
                </a:cubicBezTo>
                <a:cubicBezTo>
                  <a:pt x="14865" y="10862"/>
                  <a:pt x="13011" y="9122"/>
                  <a:pt x="10800" y="9122"/>
                </a:cubicBezTo>
                <a:cubicBezTo>
                  <a:pt x="8589" y="9122"/>
                  <a:pt x="6918" y="10862"/>
                  <a:pt x="6918" y="13177"/>
                </a:cubicBezTo>
                <a:lnTo>
                  <a:pt x="8772" y="13177"/>
                </a:lnTo>
                <a:cubicBezTo>
                  <a:pt x="8772" y="12037"/>
                  <a:pt x="9695" y="11149"/>
                  <a:pt x="10800" y="11149"/>
                </a:cubicBezTo>
                <a:cubicBezTo>
                  <a:pt x="11905" y="11149"/>
                  <a:pt x="12837" y="12037"/>
                  <a:pt x="12837" y="13177"/>
                </a:cubicBezTo>
                <a:cubicBezTo>
                  <a:pt x="12837" y="13917"/>
                  <a:pt x="12367" y="14648"/>
                  <a:pt x="11905" y="14648"/>
                </a:cubicBezTo>
                <a:cubicBezTo>
                  <a:pt x="10800" y="14648"/>
                  <a:pt x="9695" y="16128"/>
                  <a:pt x="9695" y="17651"/>
                </a:cubicBezTo>
                <a:lnTo>
                  <a:pt x="9695" y="196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3924360" y="2997360"/>
            <a:ext cx="288720" cy="43020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а дифферен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32000" y="184464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042920" y="2492280"/>
                <a:ext cx="288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042920" y="2781360"/>
                <a:ext cx="3697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1116000" y="3068640"/>
                <a:ext cx="1995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1039680" y="3141720"/>
                <a:ext cx="4577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11"/>
          <p:cNvSpPr/>
          <p:nvPr/>
        </p:nvSpPr>
        <p:spPr>
          <a:xfrm>
            <a:off x="5867280" y="2421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013080" y="2271600"/>
            <a:ext cx="301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 1 правил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для сумм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6516720" y="2708280"/>
                <a:ext cx="158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4"/>
              <p:cNvSpPr txBox="1"/>
              <p:nvPr/>
            </p:nvSpPr>
            <p:spPr>
              <a:xfrm>
                <a:off x="6516720" y="2997360"/>
                <a:ext cx="1511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g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5"/>
              <p:cNvSpPr txBox="1"/>
              <p:nvPr/>
            </p:nvSpPr>
            <p:spPr>
              <a:xfrm>
                <a:off x="6156360" y="3500280"/>
                <a:ext cx="2581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g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6"/>
              <p:cNvSpPr txBox="1"/>
              <p:nvPr/>
            </p:nvSpPr>
            <p:spPr>
              <a:xfrm>
                <a:off x="6156360" y="3645000"/>
                <a:ext cx="22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производных основных элементарны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476360" y="2060640"/>
                <a:ext cx="681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476360" y="2276640"/>
                <a:ext cx="12240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476360" y="2565360"/>
                <a:ext cx="116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476360" y="2781360"/>
                <a:ext cx="93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1547640" y="2997360"/>
                <a:ext cx="1441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4"/>
              <p:cNvSpPr txBox="1"/>
              <p:nvPr/>
            </p:nvSpPr>
            <p:spPr>
              <a:xfrm>
                <a:off x="1547640" y="3357720"/>
                <a:ext cx="935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Line 15"/>
          <p:cNvSpPr/>
          <p:nvPr/>
        </p:nvSpPr>
        <p:spPr>
          <a:xfrm>
            <a:off x="1258920" y="3933720"/>
            <a:ext cx="38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6"/>
              <p:cNvSpPr txBox="1"/>
              <p:nvPr/>
            </p:nvSpPr>
            <p:spPr>
              <a:xfrm>
                <a:off x="1463760" y="4032360"/>
                <a:ext cx="1307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7"/>
              <p:cNvSpPr txBox="1"/>
              <p:nvPr/>
            </p:nvSpPr>
            <p:spPr>
              <a:xfrm>
                <a:off x="1476360" y="4292640"/>
                <a:ext cx="1440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8"/>
              <p:cNvSpPr txBox="1"/>
              <p:nvPr/>
            </p:nvSpPr>
            <p:spPr>
              <a:xfrm>
                <a:off x="1547640" y="4437000"/>
                <a:ext cx="1338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1547640" y="4941720"/>
                <a:ext cx="154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203640" y="2133720"/>
                <a:ext cx="576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1"/>
              <p:cNvSpPr txBox="1"/>
              <p:nvPr/>
            </p:nvSpPr>
            <p:spPr>
              <a:xfrm>
                <a:off x="3203640" y="2349360"/>
                <a:ext cx="72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3203640" y="2565360"/>
                <a:ext cx="86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 flipV="1">
            <a:off x="2771640" y="2276280"/>
            <a:ext cx="432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277164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2771640" y="2492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408920" y="3798720"/>
            <a:ext cx="39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88000" y="3933720"/>
                <a:ext cx="172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8"/>
              <p:cNvSpPr txBox="1"/>
              <p:nvPr/>
            </p:nvSpPr>
            <p:spPr>
              <a:xfrm>
                <a:off x="4788000" y="4508640"/>
                <a:ext cx="1903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9"/>
              <p:cNvSpPr txBox="1"/>
              <p:nvPr/>
            </p:nvSpPr>
            <p:spPr>
              <a:xfrm>
                <a:off x="4788000" y="5084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0"/>
              <p:cNvSpPr txBox="1"/>
              <p:nvPr/>
            </p:nvSpPr>
            <p:spPr>
              <a:xfrm>
                <a:off x="4788000" y="5589720"/>
                <a:ext cx="182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22"/>
          <p:cNvSpPr/>
          <p:nvPr/>
        </p:nvSpPr>
        <p:spPr>
          <a:xfrm rot="5729400">
            <a:off x="5107680" y="4332960"/>
            <a:ext cx="492120" cy="411120"/>
          </a:xfrm>
          <a:custGeom>
            <a:avLst/>
            <a:gdLst>
              <a:gd name="textAreaLeft" fmla="*/ 0 w 492120"/>
              <a:gd name="textAreaRight" fmla="*/ 492480 w 49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0" h="259">
                <a:moveTo>
                  <a:pt x="303" y="58"/>
                </a:moveTo>
                <a:cubicBezTo>
                  <a:pt x="296" y="41"/>
                  <a:pt x="291" y="9"/>
                  <a:pt x="265" y="6"/>
                </a:cubicBezTo>
                <a:cubicBezTo>
                  <a:pt x="206" y="0"/>
                  <a:pt x="103" y="24"/>
                  <a:pt x="48" y="51"/>
                </a:cubicBezTo>
                <a:cubicBezTo>
                  <a:pt x="11" y="107"/>
                  <a:pt x="0" y="144"/>
                  <a:pt x="63" y="193"/>
                </a:cubicBezTo>
                <a:cubicBezTo>
                  <a:pt x="73" y="201"/>
                  <a:pt x="115" y="227"/>
                  <a:pt x="131" y="238"/>
                </a:cubicBezTo>
                <a:cubicBezTo>
                  <a:pt x="138" y="243"/>
                  <a:pt x="153" y="253"/>
                  <a:pt x="153" y="253"/>
                </a:cubicBezTo>
                <a:cubicBezTo>
                  <a:pt x="196" y="247"/>
                  <a:pt x="255" y="259"/>
                  <a:pt x="280" y="223"/>
                </a:cubicBezTo>
                <a:cubicBezTo>
                  <a:pt x="293" y="205"/>
                  <a:pt x="310" y="163"/>
                  <a:pt x="310" y="163"/>
                </a:cubicBezTo>
                <a:cubicBezTo>
                  <a:pt x="305" y="141"/>
                  <a:pt x="297" y="119"/>
                  <a:pt x="295" y="96"/>
                </a:cubicBezTo>
                <a:cubicBezTo>
                  <a:pt x="292" y="56"/>
                  <a:pt x="310" y="77"/>
                  <a:pt x="310" y="43"/>
                </a:cubicBezTo>
                <a:cubicBezTo>
                  <a:pt x="310" y="37"/>
                  <a:pt x="305" y="53"/>
                  <a:pt x="303" y="5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формулы 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411280" y="162864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1042920" y="1989000"/>
                <a:ext cx="2376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2276640"/>
                <a:ext cx="28274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042920" y="3141720"/>
                <a:ext cx="39686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1476360" y="458136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1"/>
          <p:cNvSpPr/>
          <p:nvPr/>
        </p:nvSpPr>
        <p:spPr>
          <a:xfrm>
            <a:off x="1547640" y="43657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619280" y="4365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2728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270036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"/>
          <p:cNvSpPr/>
          <p:nvPr/>
        </p:nvSpPr>
        <p:spPr>
          <a:xfrm rot="7033200">
            <a:off x="3778920" y="3429720"/>
            <a:ext cx="1368360" cy="1224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227" h="868">
                <a:moveTo>
                  <a:pt x="748" y="67"/>
                </a:moveTo>
                <a:cubicBezTo>
                  <a:pt x="706" y="54"/>
                  <a:pt x="743" y="70"/>
                  <a:pt x="703" y="30"/>
                </a:cubicBezTo>
                <a:cubicBezTo>
                  <a:pt x="692" y="19"/>
                  <a:pt x="664" y="6"/>
                  <a:pt x="651" y="0"/>
                </a:cubicBezTo>
                <a:cubicBezTo>
                  <a:pt x="549" y="11"/>
                  <a:pt x="442" y="30"/>
                  <a:pt x="344" y="60"/>
                </a:cubicBezTo>
                <a:cubicBezTo>
                  <a:pt x="316" y="69"/>
                  <a:pt x="275" y="78"/>
                  <a:pt x="247" y="90"/>
                </a:cubicBezTo>
                <a:cubicBezTo>
                  <a:pt x="226" y="99"/>
                  <a:pt x="187" y="120"/>
                  <a:pt x="187" y="120"/>
                </a:cubicBezTo>
                <a:cubicBezTo>
                  <a:pt x="166" y="151"/>
                  <a:pt x="141" y="147"/>
                  <a:pt x="112" y="172"/>
                </a:cubicBezTo>
                <a:cubicBezTo>
                  <a:pt x="86" y="195"/>
                  <a:pt x="74" y="218"/>
                  <a:pt x="45" y="239"/>
                </a:cubicBezTo>
                <a:cubicBezTo>
                  <a:pt x="35" y="254"/>
                  <a:pt x="25" y="269"/>
                  <a:pt x="15" y="284"/>
                </a:cubicBezTo>
                <a:cubicBezTo>
                  <a:pt x="10" y="292"/>
                  <a:pt x="0" y="307"/>
                  <a:pt x="0" y="307"/>
                </a:cubicBezTo>
                <a:cubicBezTo>
                  <a:pt x="2" y="347"/>
                  <a:pt x="2" y="387"/>
                  <a:pt x="7" y="426"/>
                </a:cubicBezTo>
                <a:cubicBezTo>
                  <a:pt x="16" y="495"/>
                  <a:pt x="61" y="550"/>
                  <a:pt x="97" y="606"/>
                </a:cubicBezTo>
                <a:cubicBezTo>
                  <a:pt x="109" y="624"/>
                  <a:pt x="130" y="633"/>
                  <a:pt x="142" y="651"/>
                </a:cubicBezTo>
                <a:cubicBezTo>
                  <a:pt x="165" y="686"/>
                  <a:pt x="176" y="711"/>
                  <a:pt x="209" y="733"/>
                </a:cubicBezTo>
                <a:cubicBezTo>
                  <a:pt x="291" y="853"/>
                  <a:pt x="419" y="834"/>
                  <a:pt x="546" y="868"/>
                </a:cubicBezTo>
                <a:cubicBezTo>
                  <a:pt x="611" y="863"/>
                  <a:pt x="676" y="861"/>
                  <a:pt x="740" y="853"/>
                </a:cubicBezTo>
                <a:cubicBezTo>
                  <a:pt x="792" y="847"/>
                  <a:pt x="822" y="822"/>
                  <a:pt x="868" y="808"/>
                </a:cubicBezTo>
                <a:cubicBezTo>
                  <a:pt x="917" y="756"/>
                  <a:pt x="978" y="727"/>
                  <a:pt x="1040" y="696"/>
                </a:cubicBezTo>
                <a:cubicBezTo>
                  <a:pt x="1047" y="686"/>
                  <a:pt x="1053" y="675"/>
                  <a:pt x="1062" y="666"/>
                </a:cubicBezTo>
                <a:cubicBezTo>
                  <a:pt x="1068" y="660"/>
                  <a:pt x="1079" y="658"/>
                  <a:pt x="1085" y="651"/>
                </a:cubicBezTo>
                <a:cubicBezTo>
                  <a:pt x="1097" y="638"/>
                  <a:pt x="1101" y="619"/>
                  <a:pt x="1114" y="606"/>
                </a:cubicBezTo>
                <a:cubicBezTo>
                  <a:pt x="1148" y="572"/>
                  <a:pt x="1185" y="527"/>
                  <a:pt x="1212" y="486"/>
                </a:cubicBezTo>
                <a:cubicBezTo>
                  <a:pt x="1214" y="478"/>
                  <a:pt x="1227" y="439"/>
                  <a:pt x="1227" y="434"/>
                </a:cubicBezTo>
                <a:cubicBezTo>
                  <a:pt x="1222" y="361"/>
                  <a:pt x="1172" y="280"/>
                  <a:pt x="1107" y="247"/>
                </a:cubicBezTo>
                <a:cubicBezTo>
                  <a:pt x="1067" y="167"/>
                  <a:pt x="1122" y="262"/>
                  <a:pt x="1062" y="202"/>
                </a:cubicBezTo>
                <a:cubicBezTo>
                  <a:pt x="1054" y="194"/>
                  <a:pt x="1054" y="181"/>
                  <a:pt x="1047" y="172"/>
                </a:cubicBezTo>
                <a:cubicBezTo>
                  <a:pt x="1030" y="152"/>
                  <a:pt x="994" y="141"/>
                  <a:pt x="972" y="127"/>
                </a:cubicBezTo>
                <a:cubicBezTo>
                  <a:pt x="958" y="81"/>
                  <a:pt x="888" y="44"/>
                  <a:pt x="845" y="22"/>
                </a:cubicBezTo>
                <a:cubicBezTo>
                  <a:pt x="789" y="32"/>
                  <a:pt x="730" y="45"/>
                  <a:pt x="673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4932360" y="4365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932360" y="44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5150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3">
            <a:hlinkClick r:id="rId1"/>
          </p:cNvPr>
          <p:cNvSpPr/>
          <p:nvPr/>
        </p:nvSpPr>
        <p:spPr>
          <a:xfrm>
            <a:off x="5148360" y="4005360"/>
            <a:ext cx="215640" cy="28872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908">
                <a:moveTo>
                  <a:pt x="0" y="0"/>
                </a:moveTo>
                <a:lnTo>
                  <a:pt x="21600" y="0"/>
                </a:lnTo>
                <a:lnTo>
                  <a:pt x="21600" y="28908"/>
                </a:lnTo>
                <a:lnTo>
                  <a:pt x="0" y="28908"/>
                </a:lnTo>
                <a:close/>
              </a:path>
              <a:path fill="lightenLess" w="21600" h="28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08">
                <a:moveTo>
                  <a:pt x="21600" y="0"/>
                </a:moveTo>
                <a:lnTo>
                  <a:pt x="21600" y="28908"/>
                </a:lnTo>
                <a:lnTo>
                  <a:pt x="20200" y="27508"/>
                </a:lnTo>
                <a:lnTo>
                  <a:pt x="20200" y="1400"/>
                </a:lnTo>
                <a:close/>
              </a:path>
              <a:path fill="darkenLess" w="21600" h="28908">
                <a:moveTo>
                  <a:pt x="21600" y="28908"/>
                </a:moveTo>
                <a:lnTo>
                  <a:pt x="0" y="28908"/>
                </a:lnTo>
                <a:lnTo>
                  <a:pt x="1400" y="27508"/>
                </a:lnTo>
                <a:lnTo>
                  <a:pt x="20200" y="27508"/>
                </a:lnTo>
                <a:close/>
              </a:path>
              <a:path fill="lighten" w="21600" h="28908">
                <a:moveTo>
                  <a:pt x="0" y="28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08"/>
                </a:lnTo>
                <a:close/>
              </a:path>
              <a:path fill="darken" w="21600" h="28908">
                <a:moveTo>
                  <a:pt x="10800" y="184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908">
                <a:moveTo>
                  <a:pt x="11905" y="17935"/>
                </a:moveTo>
                <a:lnTo>
                  <a:pt x="11905" y="15977"/>
                </a:lnTo>
                <a:cubicBezTo>
                  <a:pt x="11905" y="15150"/>
                  <a:pt x="12236" y="14454"/>
                  <a:pt x="12837" y="14454"/>
                </a:cubicBezTo>
                <a:cubicBezTo>
                  <a:pt x="13968" y="14454"/>
                  <a:pt x="14865" y="13088"/>
                  <a:pt x="14865" y="11503"/>
                </a:cubicBezTo>
                <a:cubicBezTo>
                  <a:pt x="14865" y="9188"/>
                  <a:pt x="13011" y="7448"/>
                  <a:pt x="10800" y="7448"/>
                </a:cubicBezTo>
                <a:cubicBezTo>
                  <a:pt x="8589" y="7448"/>
                  <a:pt x="6918" y="9188"/>
                  <a:pt x="6918" y="11503"/>
                </a:cubicBezTo>
                <a:lnTo>
                  <a:pt x="8772" y="11503"/>
                </a:lnTo>
                <a:cubicBezTo>
                  <a:pt x="8772" y="10363"/>
                  <a:pt x="9695" y="9475"/>
                  <a:pt x="10800" y="9475"/>
                </a:cubicBezTo>
                <a:cubicBezTo>
                  <a:pt x="11905" y="9475"/>
                  <a:pt x="12837" y="10363"/>
                  <a:pt x="12837" y="11503"/>
                </a:cubicBezTo>
                <a:cubicBezTo>
                  <a:pt x="12837" y="12243"/>
                  <a:pt x="12367" y="12974"/>
                  <a:pt x="11905" y="12974"/>
                </a:cubicBezTo>
                <a:cubicBezTo>
                  <a:pt x="10800" y="12974"/>
                  <a:pt x="9695" y="14454"/>
                  <a:pt x="9695" y="15977"/>
                </a:cubicBezTo>
                <a:lnTo>
                  <a:pt x="9695" y="179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2916360" y="4437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148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36">
                <a:moveTo>
                  <a:pt x="11905" y="14299"/>
                </a:moveTo>
                <a:lnTo>
                  <a:pt x="11905" y="12341"/>
                </a:lnTo>
                <a:cubicBezTo>
                  <a:pt x="11905" y="11514"/>
                  <a:pt x="12236" y="10818"/>
                  <a:pt x="12837" y="10818"/>
                </a:cubicBezTo>
                <a:cubicBezTo>
                  <a:pt x="13968" y="10818"/>
                  <a:pt x="14865" y="9452"/>
                  <a:pt x="14865" y="7867"/>
                </a:cubicBezTo>
                <a:cubicBezTo>
                  <a:pt x="14865" y="5552"/>
                  <a:pt x="13011" y="3812"/>
                  <a:pt x="10800" y="3812"/>
                </a:cubicBezTo>
                <a:cubicBezTo>
                  <a:pt x="8589" y="3812"/>
                  <a:pt x="6918" y="5552"/>
                  <a:pt x="6918" y="7867"/>
                </a:cubicBezTo>
                <a:lnTo>
                  <a:pt x="8772" y="7867"/>
                </a:lnTo>
                <a:cubicBezTo>
                  <a:pt x="8772" y="6727"/>
                  <a:pt x="9695" y="5839"/>
                  <a:pt x="10800" y="5839"/>
                </a:cubicBezTo>
                <a:cubicBezTo>
                  <a:pt x="11905" y="5839"/>
                  <a:pt x="12837" y="6727"/>
                  <a:pt x="12837" y="7867"/>
                </a:cubicBezTo>
                <a:cubicBezTo>
                  <a:pt x="12837" y="8607"/>
                  <a:pt x="12367" y="9338"/>
                  <a:pt x="11905" y="9338"/>
                </a:cubicBezTo>
                <a:cubicBezTo>
                  <a:pt x="10800" y="9338"/>
                  <a:pt x="9695" y="10818"/>
                  <a:pt x="9695" y="12341"/>
                </a:cubicBezTo>
                <a:lnTo>
                  <a:pt x="9695" y="14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7"/>
          <p:cNvSpPr/>
          <p:nvPr/>
        </p:nvSpPr>
        <p:spPr>
          <a:xfrm>
            <a:off x="2050920" y="595008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26" h="235">
                <a:moveTo>
                  <a:pt x="315" y="40"/>
                </a:moveTo>
                <a:cubicBezTo>
                  <a:pt x="253" y="0"/>
                  <a:pt x="211" y="12"/>
                  <a:pt x="135" y="18"/>
                </a:cubicBezTo>
                <a:cubicBezTo>
                  <a:pt x="109" y="24"/>
                  <a:pt x="85" y="32"/>
                  <a:pt x="60" y="40"/>
                </a:cubicBezTo>
                <a:cubicBezTo>
                  <a:pt x="41" y="69"/>
                  <a:pt x="19" y="71"/>
                  <a:pt x="0" y="100"/>
                </a:cubicBezTo>
                <a:cubicBezTo>
                  <a:pt x="9" y="156"/>
                  <a:pt x="5" y="179"/>
                  <a:pt x="60" y="197"/>
                </a:cubicBezTo>
                <a:cubicBezTo>
                  <a:pt x="87" y="215"/>
                  <a:pt x="76" y="210"/>
                  <a:pt x="105" y="220"/>
                </a:cubicBezTo>
                <a:cubicBezTo>
                  <a:pt x="120" y="225"/>
                  <a:pt x="150" y="235"/>
                  <a:pt x="150" y="235"/>
                </a:cubicBezTo>
                <a:cubicBezTo>
                  <a:pt x="177" y="230"/>
                  <a:pt x="205" y="228"/>
                  <a:pt x="232" y="220"/>
                </a:cubicBezTo>
                <a:cubicBezTo>
                  <a:pt x="262" y="211"/>
                  <a:pt x="267" y="177"/>
                  <a:pt x="292" y="160"/>
                </a:cubicBezTo>
                <a:cubicBezTo>
                  <a:pt x="306" y="107"/>
                  <a:pt x="326" y="97"/>
                  <a:pt x="315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140360" y="2492280"/>
            <a:ext cx="21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755640" y="2060640"/>
            <a:ext cx="26640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слож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y(x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функци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Возьмем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дполагаем, что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042920" y="2276640"/>
                <a:ext cx="20890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116000" y="2927520"/>
                <a:ext cx="1152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063800" y="3213000"/>
                <a:ext cx="20952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4140360" y="249228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AutoShape 12"/>
          <p:cNvSpPr/>
          <p:nvPr/>
        </p:nvSpPr>
        <p:spPr>
          <a:xfrm>
            <a:off x="3492360" y="2781360"/>
            <a:ext cx="574920" cy="216000"/>
          </a:xfrm>
          <a:prstGeom prst="rightArrow">
            <a:avLst>
              <a:gd name="adj1" fmla="val 50000"/>
              <a:gd name="adj2" fmla="val 66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1692360" y="4221000"/>
                <a:ext cx="1511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u</m:t>
                    </m:r>
                    <m:r>
                      <m:t xml:space="preserve">⇒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2556000" y="4437000"/>
                <a:ext cx="57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1116000" y="4581360"/>
                <a:ext cx="1260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AutoShape 18"/>
          <p:cNvSpPr/>
          <p:nvPr/>
        </p:nvSpPr>
        <p:spPr>
          <a:xfrm>
            <a:off x="1835280" y="602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10800" y="220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72">
                <a:moveTo>
                  <a:pt x="11905" y="21517"/>
                </a:moveTo>
                <a:lnTo>
                  <a:pt x="11905" y="19559"/>
                </a:lnTo>
                <a:cubicBezTo>
                  <a:pt x="11905" y="18732"/>
                  <a:pt x="12236" y="18036"/>
                  <a:pt x="12837" y="18036"/>
                </a:cubicBezTo>
                <a:cubicBezTo>
                  <a:pt x="13968" y="18036"/>
                  <a:pt x="14865" y="16670"/>
                  <a:pt x="14865" y="15085"/>
                </a:cubicBezTo>
                <a:cubicBezTo>
                  <a:pt x="14865" y="12770"/>
                  <a:pt x="13011" y="11030"/>
                  <a:pt x="10800" y="11030"/>
                </a:cubicBezTo>
                <a:cubicBezTo>
                  <a:pt x="8589" y="11030"/>
                  <a:pt x="6918" y="12770"/>
                  <a:pt x="6918" y="15085"/>
                </a:cubicBezTo>
                <a:lnTo>
                  <a:pt x="8772" y="15085"/>
                </a:lnTo>
                <a:cubicBezTo>
                  <a:pt x="8772" y="13945"/>
                  <a:pt x="9695" y="13057"/>
                  <a:pt x="10800" y="13057"/>
                </a:cubicBezTo>
                <a:cubicBezTo>
                  <a:pt x="11905" y="13057"/>
                  <a:pt x="12837" y="13945"/>
                  <a:pt x="12837" y="15085"/>
                </a:cubicBezTo>
                <a:cubicBezTo>
                  <a:pt x="12837" y="15825"/>
                  <a:pt x="12367" y="16556"/>
                  <a:pt x="11905" y="16556"/>
                </a:cubicBezTo>
                <a:cubicBezTo>
                  <a:pt x="10800" y="16556"/>
                  <a:pt x="9695" y="18036"/>
                  <a:pt x="9695" y="19559"/>
                </a:cubicBezTo>
                <a:lnTo>
                  <a:pt x="9695" y="215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711240" y="5805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.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1042920" y="5084640"/>
                <a:ext cx="25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u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7:14Z</dcterms:created>
  <dc:creator>Asus</dc:creator>
  <dc:description/>
  <dc:language>en-US</dc:language>
  <cp:lastModifiedBy>Пользователь</cp:lastModifiedBy>
  <dcterms:modified xsi:type="dcterms:W3CDTF">2018-07-01T12:30:00Z</dcterms:modified>
  <cp:revision>62</cp:revision>
  <dc:subject/>
  <dc:title>Слайд 1</dc:title>
</cp:coreProperties>
</file>